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едиц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дмет: Енглески јез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давач: Душица Лаз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reserve mental heal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s of eliminating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xation techniques in maintaining good ment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al health is a psychological state of well-being, characterized by continuing personal growth, a sense of purpose in life, self-acceptance, and positive relations with others. Some people define mental health as the absence of mental illness, but many psychologists consider this definition too narrow. Mental health can also refer to a field of study encompassing both mental health and mental illness. Psychologists have identified a number of distinct dimensions of mental health. These include self-acceptance, or self-esteem, characterized by a positive evaluation of oneself and one’s past experiences; personal growth reflected in one’s sense of continued psychological growth and development; a sense that one’s life has purpose and meaning; positive relations with others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t of the lesson can be found in the textbook “English for Students of Medicine” by Dusica La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to 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r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on and discussion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 define “mental health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dimensions of mental health have psychologists ident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critical areas that influence one’s mental heal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stress the important influence on mental heal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genetic factors determine mental heal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bility to cope with adversity crucial for mental health of the individu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emotion-focused cop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problem-focused co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mproves mental heal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hysical activities important in maintaining good mental heal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line the word which is different from the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        unavailability      omission         ab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      estimate             assessment    disre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          opposition          assistance      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           advancement     stagnation      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           general               inclusive          n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          demonstrate       hide                 exhi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m               disordered         turbulent          sto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                keep                  express           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quer          overcome          defeat              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     assurance         trust                 dif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xt contains some compounds with “SELF”. Find them and give as many similar compounds as you 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words that mean the opposite of the following by adding the appropriate pref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the right pre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al disorders can be divided.....................the organic and the funct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herapies refer.........................severe mental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psychologists base that theory.........................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, tell this patient to write his name..................the bottom of th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is activities were associated.........................that important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limit your study.......................five patients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growth is reflected........................one’s sense of confirmed psychological growth and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to cope.....................adversity may be crucial................mental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verbs in brackets into The Future Perfect or Future Perfect Continuous Te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late. The meeting (start) by the time we get to the facul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May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13, we (attend) this course exactly for three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is time next year, my friend (finish) his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ry up! She (go out) before you arrive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12 o’clock, they (work) for ten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(do) all these exercises by n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rch, this professor (teach) you for four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expect some of you (guess) the answer to that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ica Lazic</cp:lastModifiedBy>
  <dcterms:modified xsi:type="dcterms:W3CDTF">2012-09-25T13:22:24Z</dcterms:modified>
  <cp:revision>12</cp:revision>
  <dc:subject/>
  <dc:title>Slide 1</dc:title>
</cp:coreProperties>
</file>