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aches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 in one form or another probably is humanity’s most frequently troublesome symptom, affecting nearly everyone at some time and inflicting recurrent discomfort on perhaps 1 person out of 10. headaches vary widely in their intensity and in the seriousness of the underlying conditions that cause them. Most headaches occur because specific pain-sensitive structures in or around the head are overstimulated or damaged. Some of these are inside the skull, or intracranial; the remainder are in the tissues surrounding or covering the skull, or extracranial. Intracranial headache results when the arterial blood vessels at the base of the brain become excessively distended or dilated by a temporarily increased blood supply that is under excessive pressur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yestr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 headac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av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n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o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most head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intracranial headac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know about the causes of extracranial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four major classes of the more commonly experienced headaches?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episodic tension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headaches have similar clinical features as episodic tension-type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igrai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drug therapies for migrai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cluster headache occ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meaning of the following:</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tiss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type heada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lying feel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olerable p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flict discomf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ll words that can be used to describe the following:</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ac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uns from the following words and use each of them in sentences of your own:</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e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vi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entences using causative have or get:</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ll ..................................................(her arm/operate)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just.......................... (her nose/br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 (this machine/fix)</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is speech/write) at the mo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 better............................................(this report/finish) as soon as possib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n.................................................(all necessary analyses/do) while they were in hospi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С времена на време свако добије главобољу, али процењено је да 15 одсто становништва – неких 40 милиона Американаца – задобије главобољу барем једном недељно. Процењено је да су 90 одсто главобоља праћене напетошћу, која почиње од потиљка и шири се ка споља потмулим, непулсирајућим болом. Других 10 одсто, укључујући мигрене, главобоље у пределу слепоочница и очију и главобоље услед престанка узимања кофеина, проузроковане су отварањем и затварањем (проширењем у сужењем) крвних судова у глави који активирају нерве за бол. Класична мигрена је опака и пулсирајућа главобоља, обично с једне стране главе и често јој претходе визуелне сметње. Мука и повраћање често прате мигрену. Из непознатих разлога, отприлике трипут више жена него мушкараца искуси то болно ста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5T12:44:29Z</dcterms:modified>
  <cp:revision>13</cp:revision>
  <dc:subject/>
  <dc:title>Slide 1</dc:title>
</cp:coreProperties>
</file>